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06B-BE21-4FD4-9469-8FE7D684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D66-A87D-4E44-BEBE-6BBAE6A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F01-03C7-4F05-BABE-CAA026D9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BBF-B3FD-4D9B-A544-56073F5B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0CC-C526-4C2D-9438-76389C03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AFC-91AE-4A82-9506-E9A8CC5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6CF-47EB-4195-9833-47D89D7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5C9-566C-468A-87C4-0DAA1F8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105-3C88-4136-9625-8D3A118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1E7-9977-4CDA-94C7-766E2E5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334-D6D2-4B39-9D5C-40DF4EE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D61-18DA-4162-AA89-CB44FC1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6D12-81B0-4F92-B597-28FEB47E64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Nunc viverra imperdiet enim. Fusce est. Vivamus a tell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Pellentesque habitant morbi tristique senectus et netus et malesuada fames ac turpis egestas. Proin pharetra nonummy pede. Mauris et or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7T09:52:42Z</dcterms:created>
  <dc:creator>mbraun</dc:creator>
  <dc:description/>
  <dc:language>en-US</dc:language>
  <cp:lastModifiedBy>mbraun</cp:lastModifiedBy>
  <dcterms:modified xsi:type="dcterms:W3CDTF">2014-07-17T09:55:50Z</dcterms:modified>
  <cp:revision>1</cp:revision>
  <dc:subject/>
  <dc:title>Lorem ipsum</dc:title>
</cp:coreProperties>
</file>